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2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18E3-2DFB-48E8-8C27-2366AE04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2323-6B76-4E89-A187-323270314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8309-DB59-471E-9909-D9305D84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3BB-25A2-4154-BDBD-0C8CF29E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0514-ED77-42ED-9D7D-3396C35F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5C7E-FD82-47C2-B1B6-999D1B7D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7D46-7B85-4C79-92F7-BA2DDDBF4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D482-02E3-4735-8C82-5AD3E8BC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F8DD-0E36-4055-8BAB-4112271A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F69-86D3-4F0A-B35F-9804065D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1EB-C481-417F-B375-BEBD21F3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246-5F98-46F3-9EDE-0AD6A611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25B-CFBC-415B-99EA-09EE6C5D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B126-2B0D-47B4-9B3B-A6FE7E00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CA29-7F24-4F60-94F2-21709366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0C2-9C0C-4D49-83D3-5EF90724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BE18-CD74-463A-BA23-6426D385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A31C-D60C-4160-8565-0971FEC4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10E1-D4B9-47CE-A575-DF7391F4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1963-904D-43F1-97F0-F17FE062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38A-FE3D-45B7-B89E-DCB7F0C7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C60D-728C-401E-B515-BACD770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459F-DF0A-46B4-8D47-0298717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0840-DAED-4253-B632-226D6B4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0D51-CAF9-4C4D-9ABC-97E2660C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8EF-B09E-4526-86FC-58127129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D690-32ED-47A2-ABCA-2B7CEA2D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1661-6997-4B24-BE91-927B83CE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2384-A7B4-492D-BDC9-E52CB3DA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B93C-3CAE-4FFC-BC9B-8E366925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A5CE-3634-444F-B80E-C1B7DF82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7C5-3CA2-420D-82CB-950F85CF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4737-BC24-43ED-8D2C-D222E2D7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9B8E-3CFB-476C-8751-642D5CD0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9B8E-37D5-4445-B844-4410AE4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32CF-BB61-45E3-AAEE-8FB43437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C862-16EB-40B7-BD6A-8520DEEF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83A7-82B4-4207-AAA8-ABE627B4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2E3A-7637-40C4-AC68-589DE099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4751-CE67-4F33-A2FD-B6C04833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A1D94-2627-429B-A39B-3EAAD9D1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4BED2-5378-41B6-A84D-9F96CF0D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250-0F21-4D23-8577-6A6CF57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5063-4F6B-4D55-BBFD-C1ED89F1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E5C2-4D49-4F21-BC3D-BE54208A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2447-6052-4D31-99B2-4ACB0C6F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2CA4-690E-4013-B142-0D107963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6437D-B6FE-4CA8-9967-C92C738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9FF1-4069-469F-8E82-2699C70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F533-DC4D-4654-9E5B-FFBC6C0B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EDBB-4837-4AE6-9684-484620EE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A2C6-48B7-49E2-A507-F5775B72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D56B-0FD2-4590-AB58-DD14D8F2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4DF-C985-4014-8925-7AB95B60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BEC4-8068-4BD4-ACD0-AB0D8A7F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0AD81-8B86-49D2-A2A2-BE9D5898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BA22-159F-4A88-84ED-7158951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54C01-977F-48FF-B11F-8E03422A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67DE-125F-498B-9384-DB5375CA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B682-08C0-4141-A6CE-57C6993D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076B1-3861-4EC9-AA9D-9B52185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B079-9DA2-47E7-B3B8-63D191AD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C0962-D848-4949-8143-F14A4DE7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2487-CDB4-4C09-930C-2320A8A6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49B-1075-4EE4-A4BF-CE4A75B7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8F9AC-7920-4FEC-AAF3-EE9BA57E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D8D6A-97CE-4457-934E-402970BB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75F3-54CF-4F9D-A1B9-C19EEF22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8AC0-8A19-4EF3-8862-F16F03DA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88A24-D687-4751-9F3F-6612F65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944D-4CB9-40A1-BDDC-300FF896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40E63-98CC-475F-A057-1C7EDE2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F6F9E-7548-41DA-8367-A53724C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6380B-4EC5-44AC-B0E0-750CBDA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78BF2-CC75-4E59-AB38-A21B3D9F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40E-1164-4153-BC56-1249B1C5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3D112-743D-4155-9248-6AA1EFEF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2F119-E372-4881-A07D-ED9C7682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A9F51-C101-4718-8037-42D4D70C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454E3-5FDF-4E8D-8CBA-8F587547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BE6B-98DF-4B2A-B432-737C61E0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7A811-0AD0-4727-AD8E-9909A876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65E7-AF16-43BC-A411-2F15EE1D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8E60A-B52D-4D82-B564-9D599CB8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3F6D-D992-4B22-A64F-5CDFE5C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B36AE-633A-4867-873E-51FAFE70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165-27A0-4493-8718-B61BD965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73865-A5B7-4004-BB81-F050DF3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A2B8-D016-4180-81A8-F4368AE3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BFDD4-EE9D-426C-9231-600AAB81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A432-2F60-4EF3-B3CC-3B43E236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82DD-E430-4E74-BFC9-0C942A65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58412-B6B5-46EE-855F-74CF34FB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A8BAC-E105-4DBA-B39A-7EB0DD15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99F1-8030-4D94-BD2F-5C62B1E8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C494F-DCB0-4848-9349-D5A2A247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94343-2253-4B7E-BDE3-2AACB1E6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C87-911D-4F20-BCBC-93FE73F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4691C-8C78-4326-832F-CDA706A7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E4A57-F3B5-453F-B3D4-7F3B7E7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01E1-A23F-4881-9143-8D378EA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441B-0F2B-4A62-AAD0-28FF71B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7D2DC-9155-4C96-834E-713B5988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67069-C331-4714-9D04-55D15355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BFBE-689F-4DD3-B9D3-7FDB4181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EFFE-EE80-4BFD-BA9C-93FF302AE4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1632-3FA2-4DED-9F89-016C29360A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708C-E3DC-4C00-8722-3672C08C3A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EC5C-293F-46CE-ADF3-213096C1D6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335E-528E-499F-A9C7-0D6FF2BD18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F58A-3F06-40F7-B4EA-B459367CEC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89F4-0CAC-4A7B-9D83-668763592F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A6AE-BCD9-4E49-B020-BFD09AA00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dsplanet.org/factsheets/map.html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help sharks by not killing any sharks and by keeping the ocean clea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C:\Documents and Settings\bcsuser\Local Settings\Temporary Internet Files\Content.IE5\9KTC181G\MPj04392240000[1].jpg"/>
          <p:cNvPicPr/>
          <p:nvPr/>
        </p:nvPicPr>
        <p:blipFill>
          <a:blip r:embed="rId2"/>
          <a:stretch/>
        </p:blipFill>
        <p:spPr>
          <a:xfrm>
            <a:off x="2438280" y="297036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kidsplanet.org/factsheets/map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he website I us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4648320" y="2895480"/>
            <a:ext cx="39322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verage size for Pygmy shark is about 7-8 inch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C:\Users\bcsuser\AppData\Local\Microsoft\Windows\Temporary Internet Files\Content.IE5\6BPGJHM6\MPj04011390000[1].jpg"/>
          <p:cNvPicPr/>
          <p:nvPr/>
        </p:nvPicPr>
        <p:blipFill>
          <a:blip r:embed="rId2"/>
          <a:stretch/>
        </p:blipFill>
        <p:spPr>
          <a:xfrm>
            <a:off x="4343400" y="2514600"/>
            <a:ext cx="28702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harks lifespan is 20-30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C:\Users\bcsuser\AppData\Local\Microsoft\Windows\Temporary Internet Files\Content.IE5\IJG4BY4M\MPj04448010000[1].jpg"/>
          <p:cNvPicPr/>
          <p:nvPr/>
        </p:nvPicPr>
        <p:blipFill>
          <a:blip r:embed="rId2"/>
          <a:stretch/>
        </p:blipFill>
        <p:spPr>
          <a:xfrm>
            <a:off x="3124080" y="2590920"/>
            <a:ext cx="4175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harks daily diet is mostly krill , fish and other shar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bcsuser\AppData\Local\Microsoft\Windows\Temporary Internet Files\Content.IE5\IQ341GVU\MPj04448490000[1].jpg"/>
          <p:cNvPicPr/>
          <p:nvPr/>
        </p:nvPicPr>
        <p:blipFill>
          <a:blip r:embed="rId2"/>
          <a:stretch/>
        </p:blipFill>
        <p:spPr>
          <a:xfrm>
            <a:off x="4572000" y="2438280"/>
            <a:ext cx="28954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’t really know because they face lots of dangers in the wi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C:\Documents and Settings\bcsuser\Local Settings\Temporary Internet Files\Content.IE5\NJYR8WN9\MPj04424250000[1].jpg"/>
          <p:cNvPicPr/>
          <p:nvPr/>
        </p:nvPicPr>
        <p:blipFill>
          <a:blip r:embed="rId2"/>
          <a:stretch/>
        </p:blipFill>
        <p:spPr>
          <a:xfrm>
            <a:off x="4343400" y="2209680"/>
            <a:ext cx="2971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ks have a world wide range because they have adapted to live almost everywhe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Program Files\Microsoft Office\MEDIA\CAGCAT10\j0335112.wmf"/>
          <p:cNvPicPr/>
          <p:nvPr/>
        </p:nvPicPr>
        <p:blipFill>
          <a:blip r:embed="rId2"/>
          <a:stretch/>
        </p:blipFill>
        <p:spPr>
          <a:xfrm>
            <a:off x="3733920" y="3048120"/>
            <a:ext cx="3114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harks behavior is that they are really active especially in the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C:\Documents and Settings\bcsuser\Local Settings\Temporary Internet Files\Content.IE5\9KTC181G\MPj0182518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48798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harks threats are pollution and other sea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Documents and Settings\bcsuser\Local Settings\Temporary Internet Files\Content.IE5\KKWJ9YQA\MPj04371920000[1].jpg"/>
          <p:cNvPicPr/>
          <p:nvPr/>
        </p:nvPicPr>
        <p:blipFill>
          <a:blip r:embed="rId2"/>
          <a:stretch/>
        </p:blipFill>
        <p:spPr>
          <a:xfrm>
            <a:off x="2209680" y="2819520"/>
            <a:ext cx="51418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edators of the shark are whales and human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Documents and Settings\bcsuser\Local Settings\Temporary Internet Files\Content.IE5\9KTC181G\MPj04012650000[1].jpg"/>
          <p:cNvPicPr/>
          <p:nvPr/>
        </p:nvPicPr>
        <p:blipFill>
          <a:blip r:embed="rId2"/>
          <a:stretch/>
        </p:blipFill>
        <p:spPr>
          <a:xfrm>
            <a:off x="2743200" y="2438280"/>
            <a:ext cx="534996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2:05:05Z</dcterms:created>
  <dc:creator>bcsuser</dc:creator>
  <dc:description/>
  <dc:language>en-US</dc:language>
  <cp:lastModifiedBy> pc#22</cp:lastModifiedBy>
  <dcterms:modified xsi:type="dcterms:W3CDTF">2009-12-01T14:11:10Z</dcterms:modified>
  <cp:revision>13</cp:revision>
  <dc:subject/>
  <dc:title>The endangered Pygmy shark</dc:title>
</cp:coreProperties>
</file>